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977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2A6-28AB-4908-9A37-E6E0394E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B63-9503-4EFF-AB02-3FB22E04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DC4-D2F9-4050-ADF9-3707104F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3AD-4F6E-4812-89A5-13E3933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D57-C523-4A0C-AEA2-7B129BF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21E-FBE6-4E36-980A-9DCBAE10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393-846C-4268-A76F-153B1F5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B56-55CD-4A4D-9325-016B061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061-CDC7-42E0-8717-82738C3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4977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22F-C25E-499B-B8CC-9C1728D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7AE-B934-46A7-833B-F764C348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4977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8A3-2BAC-457C-AD50-A14663DB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977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977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62080" y="6095880"/>
            <a:ext cx="8619840" cy="533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7040" y="685800"/>
            <a:ext cx="862020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189-505D-4BB6-B3A6-1D068CD9E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1800" y="277920"/>
            <a:ext cx="322740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rtuozzo Tools Basic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8672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version Novem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(OperatorConnec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with an additional bi-directional pipe that is connected to a client (In) or another Agent (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message marking (security token), initial queuing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63868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set of Operators and/or Implementations, Configuration and a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 logically complete functionality with published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315200" y="457200"/>
          <a:ext cx="129240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457200"/>
                    <a:ext cx="129240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platform specific read-only defin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only when plug-in versio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lug-in may have a singl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124080"/>
            <a:ext cx="41148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rame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&gt;counter_cpu_user_states&lt;/i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tegory&gt;counters_vz_cpu&lt;/catego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ype&gt;int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value_type&gt;1&lt;/value_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unter_type&gt;0&lt;/counter_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hort&gt;User states&lt;/shor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long&gt;User CPU time (in percent)&lt;/lon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asure&gt;percent&lt;/measur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rame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733920"/>
            <a:ext cx="3505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cabulary entry example describing Performance Monitor Co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PU time (in per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configurable plug-in specific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2362320"/>
            <a:ext cx="441972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vza_per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period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ers_vz_common&gt;20&lt;/counters_vz_comm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counters_vz_net&gt;20&lt;/counters_vz_n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counters_vz_quota&gt;20&lt;/counters_vz_quota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counters_disk&gt;20&lt;/counters_dis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/period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/vza_per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124080"/>
            <a:ext cx="35053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entry example for Virtuozzo Specific Performance Moni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period for collecting stat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676520" y="1027080"/>
          <a:ext cx="632772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27080"/>
                    <a:ext cx="632772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133720" y="762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762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762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838080"/>
            <a:ext cx="1828800" cy="533520"/>
          </a:xfrm>
          <a:prstGeom prst="rect">
            <a:avLst/>
          </a:prstGeom>
          <a:solidFill>
            <a:srgbClr val="d6d5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295280"/>
            <a:ext cx="914400" cy="228600"/>
          </a:xfrm>
          <a:prstGeom prst="rect">
            <a:avLst/>
          </a:prstGeom>
          <a:solidFill>
            <a:srgbClr val="d6d5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962520"/>
            <a:ext cx="1066680" cy="1066680"/>
          </a:xfrm>
          <a:prstGeom prst="ellipse">
            <a:avLst/>
          </a:prstGeom>
          <a:solidFill>
            <a:srgbClr val="d6d5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410080"/>
            <a:ext cx="1828800" cy="533520"/>
          </a:xfrm>
          <a:prstGeom prst="rect">
            <a:avLst/>
          </a:prstGeom>
          <a:solidFill>
            <a:srgbClr val="d6d5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666880"/>
            <a:ext cx="2133720" cy="833400"/>
          </a:xfrm>
          <a:prstGeom prst="ellipse">
            <a:avLst/>
          </a:prstGeom>
          <a:solidFill>
            <a:srgbClr val="d6d5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2895480"/>
            <a:ext cx="663840" cy="314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2362320"/>
            <a:ext cx="1371600" cy="1295280"/>
          </a:xfrm>
          <a:prstGeom prst="ellipse">
            <a:avLst/>
          </a:prstGeom>
          <a:solidFill>
            <a:srgbClr val="d6d5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438280"/>
            <a:ext cx="638280" cy="257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15238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3048120"/>
            <a:ext cx="685800" cy="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502920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276720"/>
            <a:ext cx="152640" cy="68580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12193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438280"/>
            <a:ext cx="838080" cy="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8098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9144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request from client to the 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1828800"/>
            <a:ext cx="213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ary encoded internal Agent communications through the named p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657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add new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terface description (XSD sch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ad-only parameters (vocabulary) and configurable settings (config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Operator (stu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ode performing real work (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SDK files (proxy for the interface, 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me: Maxim Fedorov (dane@sw.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soft Virt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819000"/>
            <a:ext cx="43149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izes access to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e-metal or host OS and each guest has full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soft Paralle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ware, MSFT Virtual Server, X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828720"/>
            <a:ext cx="43434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izes access to the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, standard OS is running per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soft Virtuozz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VZ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olaris 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5840" y="3429000"/>
            <a:ext cx="4191120" cy="239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3417840"/>
            <a:ext cx="41925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ozzo Tool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838080" y="4811760"/>
            <a:ext cx="1828800" cy="1047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o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3581280" y="4800600"/>
            <a:ext cx="1828800" cy="1047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o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6324480" y="4835520"/>
            <a:ext cx="1676520" cy="960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ll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8686800" cy="1523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1143000"/>
            <a:ext cx="17524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4724280"/>
            <a:ext cx="10666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els C SD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724280"/>
            <a:ext cx="10670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724280"/>
            <a:ext cx="10670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819520"/>
            <a:ext cx="8686800" cy="990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120" y="3809880"/>
            <a:ext cx="2667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8098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143000"/>
            <a:ext cx="175284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143000"/>
            <a:ext cx="17524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43000"/>
            <a:ext cx="175284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-pa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895480"/>
            <a:ext cx="762120" cy="304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895480"/>
            <a:ext cx="762120" cy="304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895480"/>
            <a:ext cx="762120" cy="304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er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rver"/>
          <p:cNvSpPr/>
          <p:nvPr/>
        </p:nvSpPr>
        <p:spPr>
          <a:xfrm>
            <a:off x="3200400" y="1371600"/>
            <a:ext cx="1133640" cy="1209600"/>
          </a:xfrm>
          <a:prstGeom prst="pie">
            <a:avLst/>
          </a:prstGeom>
          <a:solidFill>
            <a:srgbClr val="ffeb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ower"/>
          <p:cNvSpPr/>
          <p:nvPr/>
        </p:nvSpPr>
        <p:spPr>
          <a:xfrm>
            <a:off x="914400" y="3886200"/>
            <a:ext cx="533520" cy="1352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ower"/>
          <p:cNvSpPr/>
          <p:nvPr/>
        </p:nvSpPr>
        <p:spPr>
          <a:xfrm>
            <a:off x="3809880" y="3962520"/>
            <a:ext cx="533520" cy="1352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ower"/>
          <p:cNvSpPr/>
          <p:nvPr/>
        </p:nvSpPr>
        <p:spPr>
          <a:xfrm>
            <a:off x="6781680" y="3962520"/>
            <a:ext cx="533520" cy="1352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523880" y="2666520"/>
            <a:ext cx="1752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733560" y="2666520"/>
            <a:ext cx="1522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343400" y="2666520"/>
            <a:ext cx="2362320" cy="1600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ozzo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334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ozz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33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sM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505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962520" y="2666880"/>
            <a:ext cx="888480" cy="1143000"/>
            <a:chOff x="3962520" y="2666880"/>
            <a:chExt cx="888480" cy="1143000"/>
          </a:xfrm>
        </p:grpSpPr>
        <p:sp>
          <p:nvSpPr>
            <p:cNvPr id="129" name=""/>
            <p:cNvSpPr/>
            <p:nvPr/>
          </p:nvSpPr>
          <p:spPr>
            <a:xfrm>
              <a:off x="3962520" y="2666880"/>
              <a:ext cx="152280" cy="1143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8480" y="327672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2590920"/>
            <a:ext cx="1905120" cy="1066320"/>
            <a:chOff x="1143000" y="2590920"/>
            <a:chExt cx="1905120" cy="1066320"/>
          </a:xfrm>
        </p:grpSpPr>
        <p:sp>
          <p:nvSpPr>
            <p:cNvPr id="132" name=""/>
            <p:cNvSpPr/>
            <p:nvPr/>
          </p:nvSpPr>
          <p:spPr>
            <a:xfrm flipH="1">
              <a:off x="1143000" y="2590920"/>
              <a:ext cx="1905120" cy="106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120" y="2978640"/>
              <a:ext cx="9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257800" y="838080"/>
            <a:ext cx="37339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Master responsibi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essage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 environments states and configurations, event logs, operation logs and oth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slave nodes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dditional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4343400"/>
            <a:ext cx="2057400" cy="1166040"/>
            <a:chOff x="1600200" y="4343400"/>
            <a:chExt cx="2057400" cy="1166040"/>
          </a:xfrm>
        </p:grpSpPr>
        <p:sp>
          <p:nvSpPr>
            <p:cNvPr id="136" name=""/>
            <p:cNvSpPr/>
            <p:nvPr/>
          </p:nvSpPr>
          <p:spPr>
            <a:xfrm>
              <a:off x="1981080" y="4343400"/>
              <a:ext cx="11430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W data transfe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 backup, migration, file manage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47242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(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et of logically connected functions with defined interface an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in a separate process or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mo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s commands, processes them and sends the repl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63868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connection between two modules (operators, clients, Ag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mplement both local and remot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SSL over TCP, Windows Named pipes and Unix Domain sockets are currently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perate in packet mode (structured messages) or with RAW strea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63868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(Loc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code that implements actual functionality (not an Agent frame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other local implem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inked directly with Ag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ork fine without Agen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63868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maintaining several pipes connected with other running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 message-based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connections from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new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543640" y="1219320"/>
          <a:ext cx="317484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219320"/>
                    <a:ext cx="317484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63868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5:20:43Z</dcterms:created>
  <dc:creator>dane</dc:creator>
  <dc:description/>
  <cp:keywords>confidential</cp:keywords>
  <dc:language>en-US</dc:language>
  <cp:lastModifiedBy>gigawinx64</cp:lastModifiedBy>
  <dcterms:modified xsi:type="dcterms:W3CDTF">2007-11-16T10:20:49Z</dcterms:modified>
  <cp:revision>624</cp:revision>
  <dc:subject/>
  <dc:title>VZ Tools</dc:title>
</cp:coreProperties>
</file>